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889-1B09-4DC6-AFCA-49B52646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DA4-FF6B-424E-A807-3FD3653B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45F-4B84-4F90-88DC-9370C59C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8CE9-23F4-4F84-8DB4-D27AF289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C7F7-4CD4-49FF-8879-174D7278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F4FD-905E-4C5A-8D0E-6075BF80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BD46-2228-4408-A703-FF00C728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DD29-E03E-43F2-867A-3C478DA4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0D93-39B9-4920-91AE-FF3DBE86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2F1C-22BD-459C-B841-E3DE8FE5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C1EC-2EFC-419C-B871-00697ADB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9720-C51D-443F-87BE-C517E498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27D7-6D9F-4371-912D-FC30F490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66B6-8178-4F76-B533-66BE4FDF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0953-723B-4203-9A9A-38600F0E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4624-DE8C-44AE-BECD-1DB03AFC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F604-7606-4778-A205-1DFAB41C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256D5-B867-4915-B9A4-2FA41F43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46BFA5-BF10-4CA6-BD47-2883D467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AA15EA-6C8D-4ADF-BEF6-77F3A43A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D19E2-4EB2-42A1-8117-3F01839C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21357-AEF5-419D-9B93-A3AA4FB0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8163-E172-4925-B11D-3863183E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BC603-78D9-4331-88BC-F92D6AB3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34C56-4982-457A-8534-2704606F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4E821-CE28-414C-9CBA-8EFA773C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EECE1-FC65-4636-BF3C-69720F30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AF89A-97AD-4E18-9922-955F1CD4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FE137-3ACA-4FC9-B827-CD9BA532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1FAD7-547E-4F23-8B19-B82168FF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8BF6D-76F9-4F62-AD4C-E4EEF2C8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9F04A-4BA8-470B-8E0F-36932D27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02602-B5CE-48E0-BCA0-456F60D2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B812-BC27-4A22-A506-14667490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ECD79-9B3B-46C0-8ABD-682A5CDF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36966-D338-4B25-BA57-D087DD81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86457-4E60-47C5-B3C6-124692C9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14EA5-2FFC-4600-B066-746E3CC4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5B3EF-6DD7-4E29-8C8F-20A07A2C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4C76B-7D7F-4531-8677-77707F7B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0FF73-5DA5-4389-A41F-38432B12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3D4AD-D242-4A28-BF9A-73842656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816BD-0389-4367-8AE1-108BB95E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2274B4-9C73-443B-9094-23B12B43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EAC-6E2C-40A7-8EFE-F2E9C786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9C0E3-63C5-4897-93BE-8F9FE116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028800-0524-4889-8A26-2F6B6246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939C0-0BE6-4DD4-8E15-42F069E4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ACC95-BCE9-47FE-868E-7D3E7E9B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2C3D51-D645-4375-83E7-D31B53C8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458AF-9A5D-4359-8AC2-D902E431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DD00F-9A32-46DF-9CAF-2B5133D3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4FDD77-0981-4CF5-85B6-D4B914A9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07EC00-8A15-466F-A62E-5E90AB5F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84057F-C7A0-4BE3-B338-78E91471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10DF-81E3-4DA7-8388-BF15245D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B7F2E3-B0A4-494B-A6AF-02AFF2F1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BEBE74-1144-44F9-B1CE-4B14B216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3D04EC-07CF-48F0-8A33-55E4BA46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06DB8-2D9D-42B7-A6D7-7FFA23CA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1787F2-8E97-4EF9-AD48-837225CC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1F487-C33C-4B90-8A70-42DBEA38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D126F4-081E-49C2-9BCE-9D1F996A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67FD4-441D-479D-8C60-628A1ED8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242220-1DD1-4BEF-A142-170FB213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91BEC3-9505-4442-B7F4-4D6C7928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292-A12E-4870-A37C-994F1648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709E3B-D5A5-432C-A430-27DC8287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C06EB3-4A57-4878-9774-7C008034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1CB048-8869-40F0-88B1-A692E944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CA8E31-BD1F-4C7D-B90E-E6F1C561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2DA282-F4A1-41EE-A91F-6F213C13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7D04E1-DD19-4E30-8275-762623EB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28F2C0-31C9-4207-A483-A51E2F6C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01AF8B-5E2B-4675-9995-FD11C1E5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2C8793-38CA-4289-950D-EE646D61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74DE2-2B6E-419F-B4BC-0C53AF6A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445-B162-4B0B-9D52-74223B45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86FE36-82E6-4C97-BE4D-76A98044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27C426-BBE3-4D5C-AC72-E88D250C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D640DD-DBDA-4781-80A9-A8D5549D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D3A5A1-438D-4A30-BA15-6908A5A1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F4006B-53CE-44CD-B8EC-869DAA2B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710-F768-42C2-8E78-71C2C3D2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DE80-D545-4756-BF8C-659628FA4AC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79CF-E73D-43FA-BD24-CBB01DD8BF8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2662-408A-4618-BCEA-D82DC704919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3ded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3ded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ded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ded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F4F0-F5A0-4CC8-98DA-E848F43ACD8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B5ED-AE3B-4389-968A-A2F30580E9C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0F7D-A01C-4FF9-ABCC-FA92EF33F6E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91BB-66D0-4A02-A6D7-622C2C78A34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974960" y="360360"/>
            <a:ext cx="6894360" cy="3125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" descr=""/>
          <p:cNvPicPr/>
          <p:nvPr/>
        </p:nvPicPr>
        <p:blipFill>
          <a:blip r:embed="rId2"/>
          <a:stretch/>
        </p:blipFill>
        <p:spPr>
          <a:xfrm>
            <a:off x="3203640" y="2997360"/>
            <a:ext cx="3786120" cy="32954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3"/>
          <p:cNvSpPr/>
          <p:nvPr/>
        </p:nvSpPr>
        <p:spPr>
          <a:xfrm>
            <a:off x="6156360" y="5950080"/>
            <a:ext cx="2987640" cy="76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Блейхер Жанна Андр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старший воспит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МБДОУ «ЦРР – детский сад №41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ТЕРМИН «ПЛАН» ТРАКТУЕТСЯ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система взаимосвязанных, направленных на достижение единой цели плановых заданий, определяющих порядок, сроки и последовательность осуществления программ, работ или отдельных мероприятий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особ кратко (или полно) зафиксировать целевые ориентиры, познавательные задачи, программное содержание, последовательность организации и проведения образовательной деятельности с деть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О ВИДАМ ПЛАНЫ ДЕЛЯТСЯ </a:t>
            </a:r>
            <a:endParaRPr b="0" lang="en-US" sz="32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400" y="100008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Прямоугольник 3"/>
          <p:cNvSpPr/>
          <p:nvPr/>
        </p:nvSpPr>
        <p:spPr>
          <a:xfrm>
            <a:off x="2143080" y="12859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232800" y="135720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спекти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2143080" y="26431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6"/>
          <p:cNvSpPr/>
          <p:nvPr/>
        </p:nvSpPr>
        <p:spPr>
          <a:xfrm>
            <a:off x="2214720" y="4214880"/>
            <a:ext cx="421452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аленд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0"/>
          <p:cNvSpPr/>
          <p:nvPr/>
        </p:nvSpPr>
        <p:spPr>
          <a:xfrm flipV="1">
            <a:off x="1071720" y="785520"/>
            <a:ext cx="0" cy="407196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Прямая со стрелкой 16"/>
          <p:cNvCxnSpPr/>
          <p:nvPr/>
        </p:nvCxnSpPr>
        <p:spPr>
          <a:xfrm>
            <a:off x="1071360" y="1714680"/>
            <a:ext cx="85788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6" name="Прямая со стрелкой 18"/>
          <p:cNvCxnSpPr/>
          <p:nvPr/>
        </p:nvCxnSpPr>
        <p:spPr>
          <a:xfrm>
            <a:off x="1071720" y="2999880"/>
            <a:ext cx="78624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7" name="Прямая со стрелкой 20"/>
          <p:cNvCxnSpPr/>
          <p:nvPr/>
        </p:nvCxnSpPr>
        <p:spPr>
          <a:xfrm>
            <a:off x="1071720" y="4857840"/>
            <a:ext cx="78624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88" name="Прямая соединительная линия 22"/>
          <p:cNvSpPr/>
          <p:nvPr/>
        </p:nvSpPr>
        <p:spPr>
          <a:xfrm flipH="1" flipV="1">
            <a:off x="1071360" y="785880"/>
            <a:ext cx="57132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5"/>
          <p:cNvSpPr/>
          <p:nvPr/>
        </p:nvSpPr>
        <p:spPr>
          <a:xfrm flipH="1">
            <a:off x="7429680" y="785880"/>
            <a:ext cx="1440" cy="407340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28"/>
          <p:cNvSpPr/>
          <p:nvPr/>
        </p:nvSpPr>
        <p:spPr>
          <a:xfrm flipH="1" flipV="1">
            <a:off x="6858000" y="785880"/>
            <a:ext cx="57168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Прямая со стрелкой 32"/>
          <p:cNvCxnSpPr/>
          <p:nvPr/>
        </p:nvCxnSpPr>
        <p:spPr>
          <a:xfrm flipH="1" flipV="1">
            <a:off x="6714360" y="171432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2" name="Прямая со стрелкой 37"/>
          <p:cNvCxnSpPr/>
          <p:nvPr/>
        </p:nvCxnSpPr>
        <p:spPr>
          <a:xfrm flipH="1" flipV="1">
            <a:off x="6714360" y="2999520"/>
            <a:ext cx="71532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3" name="Прямая со стрелкой 43"/>
          <p:cNvCxnSpPr/>
          <p:nvPr/>
        </p:nvCxnSpPr>
        <p:spPr>
          <a:xfrm flipH="1" flipV="1">
            <a:off x="6714360" y="485748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Century Schoolbook"/>
              </a:rPr>
              <a:t>СЛАБЫЕ СТОРОНЫ ПЕРСПЕКТИВНОГО ПЛАНИРОВАНИЯ</a:t>
            </a: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: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ерспективное планирование, в отсутствии календарного (комплексно – тематического) плана, не раскрывает содержания деятельности, методические приемы, не конкретизирует дидактическое обеспечение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 всегда позволяет равномерно распределить деятельность по ее видам в течение определенного отрезка времен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збежать прецедента дополнительной нагрузки на детей или ее необоснованного отсутств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трудняет осуществление методического контроля над выполнением планируемых мероприят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КОМПЛЕКСНО – ТЕМАТИЧЕСКИЙ ПЛАН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999720"/>
            <a:ext cx="7467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тельным содержанием комплексно-тематического пла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собы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зволяющие дошкольнику успешно «ориентироваться в четырех мирах действительности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живой и неживой прир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творном мир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общественных (социальных отношений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собственной внутренней жизнедеятельности» (Концепция дошкольного воспитания)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разработке комплексно – тематического плана педагогом выделяются основные «узловые» темы. Темы занятий «многослойны», т. е. они повторяются с определенным усложнением в каждой возрастной группе. Возвращение к теме в иных педагогических условиях, на другом содержании, возрастном уровне развития помогают ребенку успешно освоить информацию, овладеть новыми способами общения и познания окружающего мира, формирует компетентность как особую «практическую умелость, опыт» при решении несложных жизненных ситуац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 – тематический план может составляться воспитателем при участии специалистов ДОУ, которые на своих занятиях творчески обогащают и дополняют возможности детей, добиваясь при интеграции высоких образовательных эффекто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6840" y="713880"/>
            <a:ext cx="7467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тематического содержания, определение форм работы по его реализации и интеграции осуществляется педагогом на месяц. Основным принципом при подборе содержания являются образовательные области и решение их основных задач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23232"/>
                </a:solidFill>
                <a:latin typeface="Century Schoolbook"/>
              </a:rPr>
              <a:t>СОДЕРЖАНИЕ КАЛЕНДАРНОГО ПЛАНА СТРУКТУРИРУЕТСЯ ПО БЛОКАМ И ПРЕДСТАВЛЯЕТСЯ В ВИДЕ СХЕМЫ.</a:t>
            </a:r>
            <a:endParaRPr b="0" lang="en-US" sz="25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бразовательный бло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(сетка занят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овместной деятельности взрослого и дет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амостоятельной деятельности дете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79297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КАЛЕНДАРНОЕ  ПЛАНИРОВАНИЕ  ВОСПИТАТЕЛЬНО-ОБРАЗОВАТЕЛЬНОЙ РАБОТЫ</a:t>
            </a:r>
            <a:br>
              <a:rPr sz="1200"/>
            </a:b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       НА ПЕРИОД:__________________________________________, ГРУППА:_____________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ТЕМА:__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ЦЕЛЬ: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ИТОГОВОЕ</a:t>
            </a:r>
            <a:r>
              <a:rPr b="0" lang="en-US" sz="1200" spc="-1" strike="noStrike">
                <a:solidFill>
                  <a:srgbClr val="323232"/>
                </a:solidFill>
                <a:latin typeface="Century Schoolbook"/>
              </a:rPr>
              <a:t>     </a:t>
            </a: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МЕРОПРИЯТИЕ:________________________________________________ДАТА:____</a:t>
            </a:r>
            <a:br>
              <a:rPr sz="1200"/>
            </a:br>
            <a:endParaRPr b="0" lang="en-US" sz="1200" spc="-1" strike="noStrike">
              <a:solidFill>
                <a:srgbClr val="323232"/>
              </a:solidFill>
              <a:latin typeface="Century Schoolboo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57120" y="1928880"/>
          <a:ext cx="8286840" cy="4572000"/>
        </p:xfrm>
        <a:graphic>
          <a:graphicData uri="http://schemas.openxmlformats.org/drawingml/2006/table">
            <a:tbl>
              <a:tblPr/>
              <a:tblGrid>
                <a:gridCol w="689040"/>
                <a:gridCol w="574560"/>
                <a:gridCol w="719280"/>
                <a:gridCol w="1386000"/>
                <a:gridCol w="172800"/>
                <a:gridCol w="1559160"/>
                <a:gridCol w="1460520"/>
                <a:gridCol w="1725480"/>
              </a:tblGrid>
              <a:tr h="374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ни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нед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жи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гр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. обл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местная деятельность детей  с воспита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развивающей среды для самостоятельной детской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заимодей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в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рупп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.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худ.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ення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а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журство по столов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 в уголке при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.г.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в центре активности по интерес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беседы по запросам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0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ул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ая бес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пору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природным  и выносным материал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7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сказки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лушивание спокойной музы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Г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«Усыплялочки»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акс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овина дня, веч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стика в постели, ходьба по массажной дорожке, водные процеду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материалов к занятию, атрибутов к инр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ОБРАЗОВАТЕЛЬНАЯ ДЕЯТЕЛЬНОСТЬ В ХОДЕ РЕЖИМНЫХ МОМЕНТОВ 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ланировании образовательного содержания в ходе режимных моментов целесообразно использовать циклограмму, позволяющую педагогу установить «разумный баланс» между видами образовательной деятельности, амплифицировать развитие детей по основным направлениям: физическому, социально-личностному, познавательно-речевому и художественно-эстетическо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40" y="2506680"/>
            <a:ext cx="7215120" cy="4351320"/>
          </a:xfrm>
          <a:prstGeom prst="rect">
            <a:avLst/>
          </a:prstGeom>
          <a:ln w="0">
            <a:noFill/>
          </a:ln>
        </p:spPr>
      </p:pic>
      <p:pic>
        <p:nvPicPr>
          <p:cNvPr id="355" name="Заголовок 1" descr=""/>
          <p:cNvPicPr/>
          <p:nvPr/>
        </p:nvPicPr>
        <p:blipFill>
          <a:blip r:embed="rId2"/>
          <a:stretch/>
        </p:blipFill>
        <p:spPr>
          <a:xfrm>
            <a:off x="55440" y="49320"/>
            <a:ext cx="85219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6840" y="571680"/>
            <a:ext cx="78296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Благодарю 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за внимание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3571920" y="3286080"/>
            <a:ext cx="37861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401760" y="669960"/>
            <a:ext cx="80722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6840" y="571320"/>
            <a:ext cx="74674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 планирован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еспечение целенаправленного развития образовательных областей образовательной программы, их интеграци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здание базы для осуществления контроля за ОП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оставление информации об организации деятельности возрастной группы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ализацию новых форм взаимодействия с детьми, родителями в структуре планиров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ЛАНИРОВАНИЕ ОТРАЖАЕТ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реализации основной образовательной программы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ецифику и развитие приоритетных направлений деятельности ДОУ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авливает связи между занятиями, игрой и трудом детей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и результаты реализуемых творческих проек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кон РФ «Об образовании» (пункт 6.2 статьи 9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каз министерства образования и науки РФ от 23.11.2009 г. №655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тверждены ФГТ к структуре основной общеобразовательной программы Д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ложения ФГТ являются основ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руктуры планирования образов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 основываться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плексно-тематическом принцип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троения образовательного процесса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предусматривать решение образовательных задач в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овместной деятельности взрослого и детей и самостоятельной деятельности детей не только в рамках НОД, но и при проведении режимных моменто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 предполагать построение образовательного процесса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екватных возрасту формах работы с деть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Примерами построения образовательного процесса по комплексно-тематическому принципу служат вариативные программ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мерная основная общеобразовательная программа дошкольного образования «Успех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т рождения до школ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Золотой ключик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Сообщество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214200"/>
            <a:ext cx="74674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Овал 4"/>
          <p:cNvSpPr/>
          <p:nvPr/>
        </p:nvSpPr>
        <p:spPr>
          <a:xfrm flipV="1" rot="10800000">
            <a:off x="2286000" y="928800"/>
            <a:ext cx="4500720" cy="164304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 принцип построения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5"/>
          <p:cNvSpPr/>
          <p:nvPr/>
        </p:nvSpPr>
        <p:spPr>
          <a:xfrm>
            <a:off x="1357200" y="3071880"/>
            <a:ext cx="128592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6"/>
          <p:cNvSpPr/>
          <p:nvPr/>
        </p:nvSpPr>
        <p:spPr>
          <a:xfrm>
            <a:off x="3857760" y="3500280"/>
            <a:ext cx="135720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6429240" y="3071880"/>
            <a:ext cx="121464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8"/>
          <p:cNvSpPr/>
          <p:nvPr/>
        </p:nvSpPr>
        <p:spPr>
          <a:xfrm>
            <a:off x="3842280" y="2858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Прямая со стрелкой 10"/>
          <p:cNvCxnSpPr/>
          <p:nvPr/>
        </p:nvCxnSpPr>
        <p:spPr>
          <a:xfrm flipH="1">
            <a:off x="2356560" y="2428560"/>
            <a:ext cx="429480" cy="57204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0" name="Прямая со стрелкой 12"/>
          <p:cNvCxnSpPr/>
          <p:nvPr/>
        </p:nvCxnSpPr>
        <p:spPr>
          <a:xfrm flipH="1">
            <a:off x="4570200" y="2643120"/>
            <a:ext cx="3600" cy="6433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1" name="Прямая со стрелкой 14"/>
          <p:cNvCxnSpPr/>
          <p:nvPr/>
        </p:nvCxnSpPr>
        <p:spPr>
          <a:xfrm>
            <a:off x="6143760" y="2428560"/>
            <a:ext cx="42912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72" name="Овал 15"/>
          <p:cNvSpPr/>
          <p:nvPr/>
        </p:nvSpPr>
        <p:spPr>
          <a:xfrm>
            <a:off x="2500200" y="5143680"/>
            <a:ext cx="421488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интег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17"/>
          <p:cNvCxnSpPr/>
          <p:nvPr/>
        </p:nvCxnSpPr>
        <p:spPr>
          <a:xfrm>
            <a:off x="2000160" y="4000320"/>
            <a:ext cx="1215360" cy="121500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4" name="Прямая со стрелкой 19"/>
          <p:cNvCxnSpPr/>
          <p:nvPr/>
        </p:nvCxnSpPr>
        <p:spPr>
          <a:xfrm flipH="1">
            <a:off x="4570200" y="4501800"/>
            <a:ext cx="360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5" name="Прямая со стрелкой 21"/>
          <p:cNvCxnSpPr/>
          <p:nvPr/>
        </p:nvCxnSpPr>
        <p:spPr>
          <a:xfrm flipH="1">
            <a:off x="5857200" y="4071600"/>
            <a:ext cx="1143720" cy="11437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09:09:02Z</dcterms:created>
  <dc:creator>Лидер</dc:creator>
  <dc:description/>
  <dc:language>en-US</dc:language>
  <cp:lastModifiedBy>USER</cp:lastModifiedBy>
  <dcterms:modified xsi:type="dcterms:W3CDTF">2013-03-30T15:55:16Z</dcterms:modified>
  <cp:revision>46</cp:revision>
  <dc:subject/>
  <dc:title>«Планирование   образовательного процесса с детьми в условиях реализации                       ФГТ»</dc:title>
</cp:coreProperties>
</file>